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67E-1EEF-482F-946F-6B02F884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AEF-5021-40FF-9872-88336166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8CE-F23C-46DD-8C03-DAC35F7B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6C0-C5F2-4674-AF3D-C086FB48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F88E-EA1B-40FA-A687-78CF8A0C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8851-302C-41A0-B7A4-6E55C21D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1D38-FB00-4C68-A75B-68A26080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DA1C-2E24-426C-83E6-2078E63B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DA9B-AD07-4323-AEA7-4894763B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BFF1-7111-49BB-84C2-054D7535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9C83-7408-45D4-BDEC-F96F3766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395-A4F9-4EFF-B711-08141EF6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8025-BA3F-40BB-8BC4-C40FA4F4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DC99-2B51-4309-BB0E-5F80CE78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D367-122D-494C-9BF0-A009045B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87E8-0845-4A97-B39A-DD7CEEE7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C651-CAE2-4D8F-A8B1-DB4C299D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AB80-EB0B-4EBE-AAB4-436DF013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284D-24AD-43B0-8913-9DE1E357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D995-EFCB-4B6A-B04E-06265B76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3CE5-5C99-479D-9A00-A17FE572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F1F4-E590-4722-B236-5F2B40D6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891-55BD-499E-87DB-13A4560A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F135-AB7B-4FF0-8A17-B574F8CF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2B373-2079-4DBD-A73B-F249CCEE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A9F1-FF85-4F39-9FD8-0934A162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03CD-7014-46D2-AF26-76E11E66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4DA23-D533-4CC6-A1BA-49962392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24A27-8B55-43F8-AA27-79D0DEAF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2D83-E62C-4051-87B5-58D4C9B8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44C-156C-451A-87BB-170066F4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011-E4B8-46B4-A0A8-FAB26617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AF9-DF2C-4FD0-A007-3367D51E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76A-B057-4749-9C62-824F61E8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52C-E31F-46C8-92C8-4207606E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AF9-0355-47CB-B68E-4BA1FFAF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83E3-8A92-4EFA-88E5-89C499F05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4256-B141-4A68-86F0-0D71F62DB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90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93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95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B908-4773-41B7-96E5-BC296AE4AF7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6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Saisons et le Te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90720" y="624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leu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l’autom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57400" y="5867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 temps fait-il en autom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_x0008_fall.jpg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478240" y="2017800"/>
            <a:ext cx="52671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En autom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fait b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que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ple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_x0007_bon.jpg 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990720" y="1890720"/>
            <a:ext cx="3954240" cy="2108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_x000b_rainboy.jpg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1752480" y="4114800"/>
            <a:ext cx="23893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 autom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3" name="Picture 4" descr="&#13;ventnuage.jpg                                                  0002BBBE_x000c_Macintosh HD                   B6E9FBDF:"/>
          <p:cNvPicPr/>
          <p:nvPr/>
        </p:nvPicPr>
        <p:blipFill>
          <a:blip r:embed="rId1"/>
          <a:stretch/>
        </p:blipFill>
        <p:spPr>
          <a:xfrm>
            <a:off x="380880" y="2133720"/>
            <a:ext cx="3071880" cy="2251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3813480" y="220968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l fait du v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5" name="Picture 6" descr="_x0010_foggychinese.jpg                                               0002BBBE_x000c_Macintosh HD                   B6E9FBDF:"/>
          <p:cNvPicPr/>
          <p:nvPr/>
        </p:nvPicPr>
        <p:blipFill>
          <a:blip r:embed="rId2"/>
          <a:stretch/>
        </p:blipFill>
        <p:spPr>
          <a:xfrm>
            <a:off x="6095880" y="3276720"/>
            <a:ext cx="2301840" cy="3276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2351160" y="5425920"/>
            <a:ext cx="33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l fait du brouillar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8" name="Picture 4" descr="_x000c_falltree.jpg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287880" y="2017800"/>
            <a:ext cx="35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0" name="Picture 3" descr="&#10;wint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206880" y="2017800"/>
            <a:ext cx="336204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2" name="Picture 3" descr="&#10;summ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438280" y="2017800"/>
            <a:ext cx="4821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4" name="Picture 3" descr="_x000c_falltree.jpg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287880" y="2017800"/>
            <a:ext cx="35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6" name="Picture 5" descr="_x000b_spring2.jpg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841480" y="2017800"/>
            <a:ext cx="4075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8" name="Picture 5" descr="&#10;wint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206880" y="2017800"/>
            <a:ext cx="336204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0" name="Picture 3" descr="_x000b_spring2.jpg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841480" y="2017800"/>
            <a:ext cx="4075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Il y a quatre sais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2" name="Picture 4" descr="_x000c_4seasons.jpg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706840" y="2017800"/>
            <a:ext cx="416052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228600" y="2362320"/>
            <a:ext cx="2057400" cy="1019160"/>
          </a:xfrm>
          <a:prstGeom prst="rightArrow">
            <a:avLst>
              <a:gd name="adj1" fmla="val 49843"/>
              <a:gd name="adj2" fmla="val 464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été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6934320" y="2133720"/>
            <a:ext cx="1828800" cy="838080"/>
          </a:xfrm>
          <a:prstGeom prst="leftArrow">
            <a:avLst>
              <a:gd name="adj1" fmla="val 50000"/>
              <a:gd name="adj2" fmla="val 5455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autom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04920" y="4495680"/>
            <a:ext cx="1828800" cy="943200"/>
          </a:xfrm>
          <a:prstGeom prst="rightArrow">
            <a:avLst>
              <a:gd name="adj1" fmla="val 50000"/>
              <a:gd name="adj2" fmla="val 4847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rintem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6858000" y="4419720"/>
            <a:ext cx="1828800" cy="942840"/>
          </a:xfrm>
          <a:prstGeom prst="leftArrow">
            <a:avLst>
              <a:gd name="adj1" fmla="val 50000"/>
              <a:gd name="adj2" fmla="val 484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hiv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2" name="Picture 5" descr="&#10;summ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438280" y="2017800"/>
            <a:ext cx="4821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4" name="Picture 4" descr="_x0007_bad.jpg 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987640" y="2017800"/>
            <a:ext cx="416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6" name="Picture 4" descr="_x0008_bon1.jpg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639880" y="2017800"/>
            <a:ext cx="485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8" name="Picture 5" descr="_x0010_foggychinese.jpg                                               0002BBBE_x000c_Macintosh HD                   B6E9FBDF:"/>
          <p:cNvPicPr/>
          <p:nvPr/>
        </p:nvPicPr>
        <p:blipFill>
          <a:blip r:embed="rId1"/>
          <a:stretch/>
        </p:blipFill>
        <p:spPr>
          <a:xfrm>
            <a:off x="3048120" y="1676520"/>
            <a:ext cx="34020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0" name="Picture 4" descr="_x000c_3seasons.jpg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541680" y="2017800"/>
            <a:ext cx="2656080" cy="48402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"/>
          <p:cNvSpPr/>
          <p:nvPr/>
        </p:nvSpPr>
        <p:spPr>
          <a:xfrm>
            <a:off x="2286000" y="2590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6477120" y="40384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6400800" y="571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6" dur="1" fill="hold"/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Picture 4" descr="_x000f_coldsnowing.jpg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800440" y="2017800"/>
            <a:ext cx="453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7" name="Picture 5" descr="&#13;ventarbre.jpg                                                  0002BBBE_x000c_Macintosh HD                   B6E9FBDF:"/>
          <p:cNvPicPr/>
          <p:nvPr/>
        </p:nvPicPr>
        <p:blipFill>
          <a:blip r:embed="rId1"/>
          <a:stretch/>
        </p:blipFill>
        <p:spPr>
          <a:xfrm>
            <a:off x="2644920" y="2017800"/>
            <a:ext cx="484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9" name="Picture 4" descr="_x000c_raingirl.jpg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562200" y="2017800"/>
            <a:ext cx="301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1" name="Picture 4" descr="&#9;sunny.jpg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137040" y="2017800"/>
            <a:ext cx="386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3" name="Picture 5" descr="_x000c_foggyboy.jpg                                                   0002BBBE_x000c_Macintosh HD                   B6E9FBDF:"/>
          <p:cNvPicPr/>
          <p:nvPr/>
        </p:nvPicPr>
        <p:blipFill>
          <a:blip r:embed="rId1"/>
          <a:stretch/>
        </p:blipFill>
        <p:spPr>
          <a:xfrm>
            <a:off x="2455920" y="2017800"/>
            <a:ext cx="522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Il y a quatre sais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8" name="Picture 3" descr="_x000c_4seasons.jpg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706840" y="2017800"/>
            <a:ext cx="4160520" cy="41148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8"/>
          <p:cNvSpPr/>
          <p:nvPr/>
        </p:nvSpPr>
        <p:spPr>
          <a:xfrm>
            <a:off x="990720" y="3048120"/>
            <a:ext cx="976320" cy="714240"/>
          </a:xfrm>
          <a:prstGeom prst="rightArrow">
            <a:avLst>
              <a:gd name="adj1" fmla="val 50000"/>
              <a:gd name="adj2" fmla="val 3417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7086600" y="2819520"/>
            <a:ext cx="976320" cy="790560"/>
          </a:xfrm>
          <a:prstGeom prst="leftArrow">
            <a:avLst>
              <a:gd name="adj1" fmla="val 50000"/>
              <a:gd name="adj2" fmla="val 3087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143000" y="4952880"/>
            <a:ext cx="976320" cy="790560"/>
          </a:xfrm>
          <a:prstGeom prst="rightArrow">
            <a:avLst>
              <a:gd name="adj1" fmla="val 50000"/>
              <a:gd name="adj2" fmla="val 3087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7010280" y="4952880"/>
            <a:ext cx="976320" cy="838440"/>
          </a:xfrm>
          <a:prstGeom prst="leftArrow">
            <a:avLst>
              <a:gd name="adj1" fmla="val 50000"/>
              <a:gd name="adj2" fmla="val 2911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5" name="Picture 4" descr="&#10;window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895480" y="2209680"/>
            <a:ext cx="4572000" cy="426096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1981080" y="2286000"/>
            <a:ext cx="976320" cy="685800"/>
          </a:xfrm>
          <a:prstGeom prst="rightArrow">
            <a:avLst>
              <a:gd name="adj1" fmla="val 50000"/>
              <a:gd name="adj2" fmla="val 35591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5711760" y="2590920"/>
            <a:ext cx="978120" cy="635040"/>
          </a:xfrm>
          <a:prstGeom prst="leftArrow">
            <a:avLst>
              <a:gd name="adj1" fmla="val 50000"/>
              <a:gd name="adj2" fmla="val 38506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4419720" y="5334120"/>
            <a:ext cx="761760" cy="976320"/>
          </a:xfrm>
          <a:prstGeom prst="upArrow">
            <a:avLst>
              <a:gd name="adj1" fmla="val 50000"/>
              <a:gd name="adj2" fmla="val 32042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1" dur="1" fill="hold"/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0" name="Picture 4" descr="_x000b_snowing.jpg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685960" y="2017800"/>
            <a:ext cx="4359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2" name="Picture 5" descr="_x000e_ventgarcon.jpg                                                 0002BBBE_x000c_Macintosh HD                   B6E9FBDF:"/>
          <p:cNvPicPr/>
          <p:nvPr/>
        </p:nvPicPr>
        <p:blipFill>
          <a:blip r:embed="rId1"/>
          <a:stretch/>
        </p:blipFill>
        <p:spPr>
          <a:xfrm>
            <a:off x="2014560" y="2017800"/>
            <a:ext cx="610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052800" y="1371600"/>
            <a:ext cx="338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neig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pleu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beau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du v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chau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froi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mauvai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du brouillar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35" name="Picture 4" descr="_x0008_cold.jpg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609480" y="2133720"/>
            <a:ext cx="1292400" cy="1523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_x0007_bad.jpg 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533520" y="3809880"/>
            <a:ext cx="1447560" cy="1430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_x000b_rainboy.jpg                                                    0005D190_x000c_Macintosh HD                   B7464D7A:"/>
          <p:cNvPicPr/>
          <p:nvPr/>
        </p:nvPicPr>
        <p:blipFill>
          <a:blip r:embed="rId3"/>
          <a:stretch/>
        </p:blipFill>
        <p:spPr>
          <a:xfrm>
            <a:off x="380880" y="5334120"/>
            <a:ext cx="1371600" cy="1336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&#9;sunny.jpg                                                      0005D190_x000c_Macintosh HD                   B7464D7A:"/>
          <p:cNvPicPr/>
          <p:nvPr/>
        </p:nvPicPr>
        <p:blipFill>
          <a:blip r:embed="rId4"/>
          <a:stretch/>
        </p:blipFill>
        <p:spPr>
          <a:xfrm>
            <a:off x="5029200" y="5486400"/>
            <a:ext cx="1287360" cy="1371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_x000b_snowing.jpg                                                    0005D190_x000c_Macintosh HD                   B7464D7A:"/>
          <p:cNvPicPr/>
          <p:nvPr/>
        </p:nvPicPr>
        <p:blipFill>
          <a:blip r:embed="rId5"/>
          <a:stretch/>
        </p:blipFill>
        <p:spPr>
          <a:xfrm>
            <a:off x="7010280" y="3505320"/>
            <a:ext cx="1465560" cy="1523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_x0007_hot.jpg                                                        0005D190_x000c_Macintosh HD                   B7464D7A:"/>
          <p:cNvPicPr/>
          <p:nvPr/>
        </p:nvPicPr>
        <p:blipFill>
          <a:blip r:embed="rId6"/>
          <a:stretch/>
        </p:blipFill>
        <p:spPr>
          <a:xfrm>
            <a:off x="7315200" y="5181480"/>
            <a:ext cx="1074600" cy="152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&#13;ventnuage.jpg                                                  0002BBBE_x000c_Macintosh HD                   B6E9FBDF:"/>
          <p:cNvPicPr/>
          <p:nvPr/>
        </p:nvPicPr>
        <p:blipFill>
          <a:blip r:embed="rId7"/>
          <a:stretch/>
        </p:blipFill>
        <p:spPr>
          <a:xfrm>
            <a:off x="2590920" y="5584680"/>
            <a:ext cx="1736640" cy="1273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_x0010_foggychinese.jpg                                               0002BBBE_x000c_Macintosh HD                   B6E9FBDF:"/>
          <p:cNvPicPr/>
          <p:nvPr/>
        </p:nvPicPr>
        <p:blipFill>
          <a:blip r:embed="rId8"/>
          <a:srcRect l="0" t="0" r="1419" b="0"/>
          <a:stretch/>
        </p:blipFill>
        <p:spPr>
          <a:xfrm>
            <a:off x="7315200" y="1066680"/>
            <a:ext cx="1425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052800" y="1371600"/>
            <a:ext cx="338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neig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pleu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beau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du v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chau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froi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mauvai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Il fait du brouillar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45" name="Picture 4" descr="_x0008_cold.jpg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609480" y="2133720"/>
            <a:ext cx="129240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_x0007_bad.jpg 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533520" y="3809880"/>
            <a:ext cx="1447560" cy="1430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_x000b_rainboy.jpg                                                    0005D190_x000c_Macintosh HD                   B7464D7A:"/>
          <p:cNvPicPr/>
          <p:nvPr/>
        </p:nvPicPr>
        <p:blipFill>
          <a:blip r:embed="rId3"/>
          <a:stretch/>
        </p:blipFill>
        <p:spPr>
          <a:xfrm>
            <a:off x="380880" y="5334120"/>
            <a:ext cx="1371600" cy="133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&#9;sunny.jpg                                                      0005D190_x000c_Macintosh HD                   B7464D7A:"/>
          <p:cNvPicPr/>
          <p:nvPr/>
        </p:nvPicPr>
        <p:blipFill>
          <a:blip r:embed="rId4"/>
          <a:stretch/>
        </p:blipFill>
        <p:spPr>
          <a:xfrm>
            <a:off x="5029200" y="5486400"/>
            <a:ext cx="1287360" cy="1371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_x000b_snowing.jpg                                                    0005D190_x000c_Macintosh HD                   B7464D7A:"/>
          <p:cNvPicPr/>
          <p:nvPr/>
        </p:nvPicPr>
        <p:blipFill>
          <a:blip r:embed="rId5"/>
          <a:stretch/>
        </p:blipFill>
        <p:spPr>
          <a:xfrm>
            <a:off x="7010280" y="3505320"/>
            <a:ext cx="1465560" cy="1523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_x0007_hot.jpg                                                        0005D190_x000c_Macintosh HD                   B7464D7A:"/>
          <p:cNvPicPr/>
          <p:nvPr/>
        </p:nvPicPr>
        <p:blipFill>
          <a:blip r:embed="rId6"/>
          <a:stretch/>
        </p:blipFill>
        <p:spPr>
          <a:xfrm>
            <a:off x="7315200" y="5181480"/>
            <a:ext cx="1074600" cy="1524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&#13;ventnuage.jpg                                                  0002BBBE_x000c_Macintosh HD                   B6E9FBDF:"/>
          <p:cNvPicPr/>
          <p:nvPr/>
        </p:nvPicPr>
        <p:blipFill>
          <a:blip r:embed="rId7"/>
          <a:stretch/>
        </p:blipFill>
        <p:spPr>
          <a:xfrm>
            <a:off x="2590920" y="5584680"/>
            <a:ext cx="1736640" cy="1273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_x0010_foggychinese.jpg                                               0002BBBE_x000c_Macintosh HD                   B6E9FBDF:"/>
          <p:cNvPicPr/>
          <p:nvPr/>
        </p:nvPicPr>
        <p:blipFill>
          <a:blip r:embed="rId8"/>
          <a:srcRect l="0" t="0" r="1419" b="0"/>
          <a:stretch/>
        </p:blipFill>
        <p:spPr>
          <a:xfrm>
            <a:off x="7315200" y="1066680"/>
            <a:ext cx="1425600" cy="2057400"/>
          </a:xfrm>
          <a:prstGeom prst="rect">
            <a:avLst/>
          </a:prstGeom>
          <a:ln w="0">
            <a:noFill/>
          </a:ln>
        </p:spPr>
      </p:pic>
      <p:sp>
        <p:nvSpPr>
          <p:cNvPr id="253" name="Line 12"/>
          <p:cNvSpPr/>
          <p:nvPr/>
        </p:nvSpPr>
        <p:spPr>
          <a:xfrm>
            <a:off x="4648320" y="1676520"/>
            <a:ext cx="2514600" cy="20574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 flipH="1">
            <a:off x="1600200" y="2133720"/>
            <a:ext cx="1447920" cy="32763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5334120" y="3657600"/>
            <a:ext cx="2057400" cy="20574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 flipH="1" flipV="1">
            <a:off x="1600200" y="3047760"/>
            <a:ext cx="1371600" cy="10666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 flipH="1">
            <a:off x="1600200" y="4572000"/>
            <a:ext cx="1371600" cy="763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 flipV="1">
            <a:off x="6324480" y="2438280"/>
            <a:ext cx="838440" cy="23623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Freeform 19"/>
          <p:cNvSpPr/>
          <p:nvPr/>
        </p:nvSpPr>
        <p:spPr>
          <a:xfrm>
            <a:off x="5181480" y="2666880"/>
            <a:ext cx="1257480" cy="320040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792" h="2024">
                <a:moveTo>
                  <a:pt x="0" y="0"/>
                </a:moveTo>
                <a:cubicBezTo>
                  <a:pt x="324" y="276"/>
                  <a:pt x="648" y="552"/>
                  <a:pt x="720" y="864"/>
                </a:cubicBezTo>
                <a:cubicBezTo>
                  <a:pt x="792" y="1176"/>
                  <a:pt x="480" y="1720"/>
                  <a:pt x="432" y="1872"/>
                </a:cubicBezTo>
                <a:cubicBezTo>
                  <a:pt x="384" y="2024"/>
                  <a:pt x="408" y="1900"/>
                  <a:pt x="432" y="17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Freeform 21"/>
          <p:cNvSpPr/>
          <p:nvPr/>
        </p:nvSpPr>
        <p:spPr>
          <a:xfrm>
            <a:off x="2577960" y="3200400"/>
            <a:ext cx="470160" cy="2438280"/>
          </a:xfrm>
          <a:custGeom>
            <a:avLst/>
            <a:gdLst>
              <a:gd name="textAreaLeft" fmla="*/ 0 w 470160"/>
              <a:gd name="textAreaRight" fmla="*/ 470520 w 47016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96" h="1536">
                <a:moveTo>
                  <a:pt x="248" y="0"/>
                </a:moveTo>
                <a:cubicBezTo>
                  <a:pt x="124" y="496"/>
                  <a:pt x="0" y="992"/>
                  <a:pt x="8" y="1248"/>
                </a:cubicBezTo>
                <a:cubicBezTo>
                  <a:pt x="16" y="1504"/>
                  <a:pt x="156" y="1520"/>
                  <a:pt x="296" y="15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28600" y="762120"/>
            <a:ext cx="7924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n            _______ il fait _________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n         ________ il _________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n         ________il ________ quelquefois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Au         ________ il fait _______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62" name="Picture 3" descr="&#10;summ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838080" y="380880"/>
            <a:ext cx="1171800" cy="1100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_x0007_sun.jpg 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7086600" y="228600"/>
            <a:ext cx="1488960" cy="1523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&#10;winter.jpg                                                     0005D190_x000c_Macintosh HD                   B7464D7A:"/>
          <p:cNvPicPr/>
          <p:nvPr/>
        </p:nvPicPr>
        <p:blipFill>
          <a:blip r:embed="rId3"/>
          <a:stretch/>
        </p:blipFill>
        <p:spPr>
          <a:xfrm>
            <a:off x="838080" y="175248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_x000f_coldsnowing.jpg                                                0005D190_x000c_Macintosh HD                   B7464D7A:"/>
          <p:cNvPicPr/>
          <p:nvPr/>
        </p:nvPicPr>
        <p:blipFill>
          <a:blip r:embed="rId4"/>
          <a:stretch/>
        </p:blipFill>
        <p:spPr>
          <a:xfrm>
            <a:off x="6248520" y="1828800"/>
            <a:ext cx="1330200" cy="120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_x000c_falltree.jpg                                                   0005D190_x000c_Macintosh HD                   B7464D7A:"/>
          <p:cNvPicPr/>
          <p:nvPr/>
        </p:nvPicPr>
        <p:blipFill>
          <a:blip r:embed="rId5"/>
          <a:stretch/>
        </p:blipFill>
        <p:spPr>
          <a:xfrm>
            <a:off x="838080" y="342900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_x000c_raingirl.jpg                                                   0005D190_x000c_Macintosh HD                   B7464D7A:"/>
          <p:cNvPicPr/>
          <p:nvPr/>
        </p:nvPicPr>
        <p:blipFill>
          <a:blip r:embed="rId6"/>
          <a:stretch/>
        </p:blipFill>
        <p:spPr>
          <a:xfrm>
            <a:off x="7916760" y="3276720"/>
            <a:ext cx="1227240" cy="1676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&#10;spring.jpg                                                     0005D190_x000c_Macintosh HD                   B7464D7A:"/>
          <p:cNvPicPr/>
          <p:nvPr/>
        </p:nvPicPr>
        <p:blipFill>
          <a:blip r:embed="rId7"/>
          <a:stretch/>
        </p:blipFill>
        <p:spPr>
          <a:xfrm>
            <a:off x="838080" y="4724280"/>
            <a:ext cx="1005120" cy="1447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_x0007_bon.jpg                                                        0005D190_x000c_Macintosh HD                   B7464D7A:"/>
          <p:cNvPicPr/>
          <p:nvPr/>
        </p:nvPicPr>
        <p:blipFill>
          <a:blip r:embed="rId8"/>
          <a:stretch/>
        </p:blipFill>
        <p:spPr>
          <a:xfrm>
            <a:off x="6781680" y="5343480"/>
            <a:ext cx="22100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28600" y="762120"/>
            <a:ext cx="7924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n             été  il fait beau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n             hiver  il neige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n           automne il pleut quelquefois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Au            printemps il fait bon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71" name="Picture 3" descr="&#10;summ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914400" y="380880"/>
            <a:ext cx="1171440" cy="1100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_x0007_sun.jpg 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5715000" y="152280"/>
            <a:ext cx="1488960" cy="1524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&#10;winter.jpg                                                     0005D190_x000c_Macintosh HD                   B7464D7A:"/>
          <p:cNvPicPr/>
          <p:nvPr/>
        </p:nvPicPr>
        <p:blipFill>
          <a:blip r:embed="rId3"/>
          <a:stretch/>
        </p:blipFill>
        <p:spPr>
          <a:xfrm>
            <a:off x="990720" y="182880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_x000f_coldsnowing.jpg                                                0005D190_x000c_Macintosh HD                   B7464D7A:"/>
          <p:cNvPicPr/>
          <p:nvPr/>
        </p:nvPicPr>
        <p:blipFill>
          <a:blip r:embed="rId4"/>
          <a:stretch/>
        </p:blipFill>
        <p:spPr>
          <a:xfrm>
            <a:off x="4876920" y="1728720"/>
            <a:ext cx="1523880" cy="13827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_x000c_falltree.jpg                                                   0005D190_x000c_Macintosh HD                   B7464D7A:"/>
          <p:cNvPicPr/>
          <p:nvPr/>
        </p:nvPicPr>
        <p:blipFill>
          <a:blip r:embed="rId5"/>
          <a:stretch/>
        </p:blipFill>
        <p:spPr>
          <a:xfrm>
            <a:off x="838080" y="342900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_x000c_raingirl.jpg                                                   0005D190_x000c_Macintosh HD                   B7464D7A:"/>
          <p:cNvPicPr/>
          <p:nvPr/>
        </p:nvPicPr>
        <p:blipFill>
          <a:blip r:embed="rId6"/>
          <a:stretch/>
        </p:blipFill>
        <p:spPr>
          <a:xfrm>
            <a:off x="7315200" y="3200400"/>
            <a:ext cx="122724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&#10;spring.jpg                                                     0005D190_x000c_Macintosh HD                   B7464D7A:"/>
          <p:cNvPicPr/>
          <p:nvPr/>
        </p:nvPicPr>
        <p:blipFill>
          <a:blip r:embed="rId7"/>
          <a:stretch/>
        </p:blipFill>
        <p:spPr>
          <a:xfrm>
            <a:off x="990720" y="4800600"/>
            <a:ext cx="1004760" cy="1447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_x0007_bon.jpg                                                        0005D190_x000c_Macintosh HD                   B7464D7A:"/>
          <p:cNvPicPr/>
          <p:nvPr/>
        </p:nvPicPr>
        <p:blipFill>
          <a:blip r:embed="rId8"/>
          <a:stretch/>
        </p:blipFill>
        <p:spPr>
          <a:xfrm>
            <a:off x="6019920" y="5105520"/>
            <a:ext cx="220968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l’é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5862240"/>
            <a:ext cx="77724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 temps fait-il en é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&#10;summ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544920" y="2017800"/>
            <a:ext cx="35323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En é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fait beau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fait chau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_x0007_sun.jpg 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2119320" y="2017800"/>
            <a:ext cx="193680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_x0007_hot.jpg 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2387520" y="4151160"/>
            <a:ext cx="1398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l’hiv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90920" y="5867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 temps fait-il en h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&#10;winter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4154400" y="2017800"/>
            <a:ext cx="2529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En hiv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498960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fait mauv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fait fr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 quelquefois il nei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&#10;badman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6022800" y="2017800"/>
            <a:ext cx="205272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_x0008_cold.jpg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6208560" y="4151160"/>
            <a:ext cx="1681200" cy="1981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_x000b_snowing.jpg                                                    0005D190_x000c_Macintosh HD                   B7464D7A:"/>
          <p:cNvPicPr/>
          <p:nvPr/>
        </p:nvPicPr>
        <p:blipFill>
          <a:blip r:embed="rId3"/>
          <a:stretch/>
        </p:blipFill>
        <p:spPr>
          <a:xfrm>
            <a:off x="2666880" y="5029200"/>
            <a:ext cx="1757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’est le printem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57400" y="5867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au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rintem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&#10;spring.jpg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3139920" y="2017800"/>
            <a:ext cx="26146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Au printem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fait b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que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ple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_x0008_bon1.jpg                                                       0005D190_x000c_Macintosh HD                   B7464D7A:"/>
          <p:cNvPicPr/>
          <p:nvPr/>
        </p:nvPicPr>
        <p:blipFill>
          <a:blip r:embed="rId1"/>
          <a:stretch/>
        </p:blipFill>
        <p:spPr>
          <a:xfrm>
            <a:off x="1752480" y="1878120"/>
            <a:ext cx="2503440" cy="212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_x0008_rain.jpg                                                       0005D190_x000c_Macintosh HD                   B7464D7A:"/>
          <p:cNvPicPr/>
          <p:nvPr/>
        </p:nvPicPr>
        <p:blipFill>
          <a:blip r:embed="rId2"/>
          <a:stretch/>
        </p:blipFill>
        <p:spPr>
          <a:xfrm>
            <a:off x="2004840" y="4151160"/>
            <a:ext cx="188604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02:41:04Z</dcterms:created>
  <dc:creator>Sandra Howard</dc:creator>
  <dc:description/>
  <dc:language>en-US</dc:language>
  <cp:lastModifiedBy>melina.morin</cp:lastModifiedBy>
  <cp:lastPrinted>2003-10-02T17:03:30Z</cp:lastPrinted>
  <dcterms:modified xsi:type="dcterms:W3CDTF">2011-08-31T17:26:05Z</dcterms:modified>
  <cp:revision>29</cp:revision>
  <dc:subject/>
  <dc:title>Les Saisons et le Temps</dc:title>
</cp:coreProperties>
</file>